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5F7-195D-4F17-93BD-82590B78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4C3-2277-4037-B18B-297502B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8B5-AC7B-4006-9DA8-055BF051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282-8F50-4C7C-BB50-27FA376F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5F2-23B2-400F-8C65-09A8CF1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305-C4A3-4458-B150-3B955FF2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B57-0C28-475F-9F17-13A97F1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DF3-B974-4D6B-B2F7-1B3C05AB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DCD-0DE3-4B29-81B9-58C5353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806-FFF0-4568-80F0-D23F9CE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4CD-1233-46AE-8330-D437351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3ED-E1F0-4659-8AF3-17E4094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89F-B40F-4B75-970F-33BE60A6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73360"/>
            <a:ext cx="575496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ssil fuels / crude oil / geologic formations beneath the Earth / coal / layers, veins, coal seams / natural gas / natural mixture of gases / primarily methane / biofuels / bioethanol / alcohol made by fermentation from carbohydrates / Biodiesel / vegetable oils / animal fats / wind power / conversion wind energy / wind turbines / wind generators / make electricity / offshore wind power / harness / better wind speeds / offshore compared to on land / solar power /conversion sunlight / into electricity / directly / using photovoltaics / indirectly / concentrated solar power / using lenses or mirrors / to focus sunlight /hydropower / energy of falling water / comes from potential energy / driving water to turbine / gener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549360"/>
            <a:ext cx="56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next  text boxes by using the following words and phrases (they are not in order with regard to the sl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14316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663640" cy="202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35772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42900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80536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437000"/>
            <a:ext cx="26640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ile:Giant photovoltaic array.jpg"/>
          <p:cNvPicPr/>
          <p:nvPr/>
        </p:nvPicPr>
        <p:blipFill>
          <a:blip r:embed="rId1"/>
          <a:stretch/>
        </p:blipFill>
        <p:spPr>
          <a:xfrm>
            <a:off x="826920" y="3500280"/>
            <a:ext cx="4034160" cy="302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PS10 solar power tower.jpg"/>
          <p:cNvPicPr/>
          <p:nvPr/>
        </p:nvPicPr>
        <p:blipFill>
          <a:blip r:embed="rId2"/>
          <a:stretch/>
        </p:blipFill>
        <p:spPr>
          <a:xfrm>
            <a:off x="3708360" y="260280"/>
            <a:ext cx="484668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58920" y="62064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378936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486900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rchivo:Turbiny wiatrowe ubt.jpeg"/>
          <p:cNvPicPr/>
          <p:nvPr/>
        </p:nvPicPr>
        <p:blipFill>
          <a:blip r:embed="rId1"/>
          <a:stretch/>
        </p:blipFill>
        <p:spPr>
          <a:xfrm>
            <a:off x="900000" y="333360"/>
            <a:ext cx="3484800" cy="206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Archivo:Windmills D1-D4 (Thornton Bank).jpg"/>
          <p:cNvPicPr/>
          <p:nvPr/>
        </p:nvPicPr>
        <p:blipFill>
          <a:blip r:embed="rId2"/>
          <a:stretch/>
        </p:blipFill>
        <p:spPr>
          <a:xfrm>
            <a:off x="5364000" y="2133720"/>
            <a:ext cx="292752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59280" y="54936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06864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11480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98100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321080" cy="398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76720" y="465300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3280" y="692280"/>
          <a:ext cx="368640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692280"/>
                    <a:ext cx="36864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8:21:48Z</dcterms:created>
  <dc:creator>Rafael Moreno</dc:creator>
  <dc:description/>
  <dc:language>en-US</dc:language>
  <cp:lastModifiedBy>Rafael Moreno</cp:lastModifiedBy>
  <dcterms:modified xsi:type="dcterms:W3CDTF">2012-01-11T18:49:01Z</dcterms:modified>
  <cp:revision>4</cp:revision>
  <dc:subject/>
  <dc:title>Diapositiva 1</dc:title>
</cp:coreProperties>
</file>